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B65-6387-422E-8A77-EF44FED6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D37-38C1-47F6-9F25-C38A5D3E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9DB7-51F5-4EA9-9DF0-1C81A8A3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A8B-BFD3-4045-A894-EF813B0B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797-0073-49BA-8617-3986EDC0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ED4-9223-4A32-A626-7B334815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9C6-D477-4CCD-9A6B-127E29F9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B45-C347-4C07-911C-F146111D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66B-53B5-416B-8F8B-3AC44CD2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813C-D267-4E04-933C-4E17BA12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7D0-F5FC-47DF-BB5D-EC3B9CCF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43F-F80D-4208-AB89-8A5B9D3B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640" indent="-2880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286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282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282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282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1E29871-4D07-432C-B505-D55D9E260ED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53880" y="141120"/>
            <a:ext cx="9185400" cy="6233760"/>
            <a:chOff x="353880" y="141120"/>
            <a:chExt cx="9185400" cy="6233760"/>
          </a:xfrm>
        </p:grpSpPr>
        <p:sp>
          <p:nvSpPr>
            <p:cNvPr id="42" name=""/>
            <p:cNvSpPr/>
            <p:nvPr/>
          </p:nvSpPr>
          <p:spPr>
            <a:xfrm>
              <a:off x="2510280" y="2690640"/>
              <a:ext cx="218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629080" y="2903040"/>
              <a:ext cx="199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510280" y="3115800"/>
              <a:ext cx="218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10280" y="2690640"/>
              <a:ext cx="0" cy="42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1396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16200000">
              <a:off x="25426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754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754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 rot="16200000">
              <a:off x="26852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176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176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544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16200000">
              <a:off x="261072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467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467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4672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61396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5400000">
              <a:off x="25426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5754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5754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5400000">
              <a:off x="26852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27176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7176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7544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261072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64672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64672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64672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9020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20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46720" y="387108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6920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 rot="16200000">
              <a:off x="27979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3068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306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 rot="16200000">
              <a:off x="294012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732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732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3068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16200000">
              <a:off x="286632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0196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0196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01960" y="1911600"/>
              <a:ext cx="0" cy="25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86920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5400000">
              <a:off x="27979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83068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8306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5400000">
              <a:off x="294012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9732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9732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30680" y="32839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286632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90196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90196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90196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45440" y="369108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45440" y="37530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01960" y="3871080"/>
              <a:ext cx="0" cy="80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244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 rot="16200000">
              <a:off x="334116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7392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7392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 rot="16200000">
              <a:off x="348336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1648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64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7392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 rot="16200000">
              <a:off x="340956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4520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4520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5200" y="1902600"/>
              <a:ext cx="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334116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37392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373920" y="324108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348336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51648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516480" y="324072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480840" y="3326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516480" y="349308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73920" y="358488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732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16200000">
              <a:off x="305604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8916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91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 rot="16200000">
              <a:off x="319860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313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13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916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 rot="16200000">
              <a:off x="312444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600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600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0080" y="1769760"/>
              <a:ext cx="0" cy="40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127320" y="33415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305604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08916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0891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3198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2313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2313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8916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312444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1600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1600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16008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0392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0392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60080" y="3871080"/>
              <a:ext cx="0" cy="30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127320" y="41767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03920" y="439776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160080" y="43444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62960" y="3944880"/>
              <a:ext cx="36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2640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2640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37680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376800" y="4139640"/>
              <a:ext cx="0" cy="74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8372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8372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53448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534480" y="4139280"/>
              <a:ext cx="0" cy="67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3320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16200000">
              <a:off x="36619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9468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946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16200000">
              <a:off x="38041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3688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368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9468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16200000">
              <a:off x="372996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596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6596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6596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73320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36619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69468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6946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38041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3688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8368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9468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372996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76596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76596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76596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0944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0944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65960" y="3871080"/>
              <a:ext cx="0" cy="30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733200" y="41738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09440" y="439488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765960" y="43412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6848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3192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3192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98232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982320" y="4139640"/>
              <a:ext cx="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3133440" y="4377240"/>
            <a:ext cx="82800" cy="141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33440" y="4377240"/>
                      <a:ext cx="82800" cy="14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"/>
            <p:cNvGraphicFramePr/>
            <p:nvPr/>
          </p:nvGraphicFramePr>
          <p:xfrm>
            <a:off x="3738960" y="4374000"/>
            <a:ext cx="82800" cy="1418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8960" y="4374000"/>
                      <a:ext cx="82800" cy="14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412488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 rot="16200000">
              <a:off x="405360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8636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863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16200000">
              <a:off x="419616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85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285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8636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 rot="16200000">
              <a:off x="412200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5764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764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57640" y="1911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2488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4053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08636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0863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419616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2285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2285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8636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400000">
              <a:off x="412200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15764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15764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15764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0112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0112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57640" y="38710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124880" y="40158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01120" y="42368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57640" y="41835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6052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23960" y="3998160"/>
              <a:ext cx="10044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23960" y="4036320"/>
              <a:ext cx="10044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37436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374360" y="4139280"/>
              <a:ext cx="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54760" y="3726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73560" y="3788640"/>
              <a:ext cx="6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 rot="5400000">
              <a:off x="4393440" y="370368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80920" y="3558240"/>
              <a:ext cx="56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4852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 rot="16200000">
              <a:off x="43772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096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096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 rot="16200000">
              <a:off x="451944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525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525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0964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 rot="16200000">
              <a:off x="444528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809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809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80920" y="1557360"/>
              <a:ext cx="0" cy="6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43772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4096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4096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451944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5525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55256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09640" y="32839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899960" y="2690640"/>
              <a:ext cx="2219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979880" y="2903040"/>
              <a:ext cx="206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899960" y="3115800"/>
              <a:ext cx="2219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17200" y="2690640"/>
              <a:ext cx="0" cy="42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840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16200000">
              <a:off x="494676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7988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798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16200000">
              <a:off x="50896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224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224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97988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6200000">
              <a:off x="501516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5080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5080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5080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5400000">
              <a:off x="494676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97988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9798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50896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51224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51224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7988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01552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50482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0482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4480920" y="328644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1828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16200000">
              <a:off x="52466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7940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794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6200000">
              <a:off x="538920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2232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2232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79400" y="25225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6200000">
              <a:off x="531504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506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506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50680" y="197352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318280" y="33415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400000">
              <a:off x="52466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27940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794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400000">
              <a:off x="538920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42232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42232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79400" y="328392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00000">
              <a:off x="531504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3506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3506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35068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9452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9452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50680" y="3871080"/>
              <a:ext cx="0" cy="44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4156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16200000">
              <a:off x="557028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0340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034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 rot="16200000">
              <a:off x="57128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4560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456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0340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 rot="16200000">
              <a:off x="563868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743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743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11160" y="1840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641560" y="33415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557028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60340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6034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57128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74560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456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0340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563868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67432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67432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67432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1816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1816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74320" y="38710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641560" y="415368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18160" y="43758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674320" y="43221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7720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4064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4064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89104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891040" y="4139280"/>
              <a:ext cx="0" cy="88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53320" y="229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 rot="16200000">
              <a:off x="5882040" y="256896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1480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148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16200000">
              <a:off x="602460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5736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5736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1480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16200000">
              <a:off x="595008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860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860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19680" y="1699200"/>
              <a:ext cx="0" cy="4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5400000">
              <a:off x="5882040" y="31658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91480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5914800" y="324108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24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05736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057360" y="324072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021720" y="3326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6057360" y="3493080"/>
              <a:ext cx="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14800" y="358488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8020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 rot="16200000">
              <a:off x="620856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4132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4132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 rot="16200000">
              <a:off x="635112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8388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8388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4132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16200000">
              <a:off x="6276600" y="217620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1260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260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28020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5400000">
              <a:off x="620856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24132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24132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635112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38388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38388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4132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6276600" y="3558240"/>
              <a:ext cx="70920" cy="709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31260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31260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631260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56080" y="36910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56080" y="37530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12600" y="38710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280200" y="414936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56080" y="437148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312600" y="431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15480" y="394488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78560" y="3998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78560" y="403632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529320" y="39445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529320" y="4139640"/>
              <a:ext cx="0" cy="3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8872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 rot="16200000">
              <a:off x="65174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498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498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 rot="16200000">
              <a:off x="665964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9240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9240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4984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 rot="16200000">
              <a:off x="658584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2148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2148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58872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5400000">
              <a:off x="65174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5498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5498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665964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69240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669240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4984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5400000">
              <a:off x="6585840" y="35578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62148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621480" y="350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621480" y="36316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64960" y="369108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564960" y="37530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21480" y="3871080"/>
              <a:ext cx="0" cy="9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1760" y="5203440"/>
              <a:ext cx="156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1760" y="5486760"/>
              <a:ext cx="78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23240" y="4937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6000" y="510768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268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5440" y="5753880"/>
              <a:ext cx="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9544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7800" y="510768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5400000">
              <a:off x="948240" y="502596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847800" y="5109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067400" y="5109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23920" y="510912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65680" y="558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98080" y="5753880"/>
              <a:ext cx="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19808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1440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47160" y="575388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94716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5400000">
              <a:off x="1331280" y="540072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44680" y="548676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88960" y="558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21720" y="5753880"/>
              <a:ext cx="0" cy="1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152172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9956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32320" y="575388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173232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4824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80640" y="575388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188064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93320" y="558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26080" y="575388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02608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22520" y="510768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5400000">
              <a:off x="1722960" y="502596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1622520" y="5109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842120" y="5109120"/>
              <a:ext cx="5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98640" y="510912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44476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31120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4476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247752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775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342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3752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752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244240" y="5841000"/>
              <a:ext cx="26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6932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5768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61108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110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26787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27133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1332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02080" y="584100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5193360" y="54867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1216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5344920" y="488628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449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712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52498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6000" y="4673880"/>
              <a:ext cx="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6000" y="418392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16320" y="4288680"/>
              <a:ext cx="44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718560" y="3925800"/>
              <a:ext cx="66960" cy="250200"/>
              <a:chOff x="718560" y="3925800"/>
              <a:chExt cx="66960" cy="250200"/>
            </a:xfrm>
          </p:grpSpPr>
          <p:sp>
            <p:nvSpPr>
              <p:cNvPr id="491" name=""/>
              <p:cNvSpPr/>
              <p:nvPr/>
            </p:nvSpPr>
            <p:spPr>
              <a:xfrm flipV="1">
                <a:off x="718560" y="4008960"/>
                <a:ext cx="66960" cy="1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55640" y="3925800"/>
                <a:ext cx="0" cy="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705240" y="3784320"/>
              <a:ext cx="100800" cy="99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5240" y="382248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8560" y="352728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56000" y="369396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56000" y="332784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2680" y="3434400"/>
              <a:ext cx="62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2680" y="3323880"/>
              <a:ext cx="62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5400000">
              <a:off x="979560" y="31460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97280" y="32263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77320" y="322956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77320" y="323388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47680" y="323388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7200" y="31867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2640" y="30182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7200" y="28767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2640" y="270828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637200" y="25664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2680" y="2569680"/>
              <a:ext cx="925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2680" y="2463480"/>
              <a:ext cx="925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834480" y="2281320"/>
              <a:ext cx="66240" cy="16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51840" y="236160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1880" y="236448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880" y="236916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02240" y="236916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47800" y="27082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881640" y="2463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1098360" y="2463480"/>
              <a:ext cx="66960" cy="411120"/>
              <a:chOff x="1098360" y="2463480"/>
              <a:chExt cx="66960" cy="411120"/>
            </a:xfrm>
          </p:grpSpPr>
          <p:sp>
            <p:nvSpPr>
              <p:cNvPr id="520" name=""/>
              <p:cNvSpPr/>
              <p:nvPr/>
            </p:nvSpPr>
            <p:spPr>
              <a:xfrm>
                <a:off x="1098360" y="2708280"/>
                <a:ext cx="6696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1132200" y="246348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 flipV="1">
              <a:off x="1417680" y="207108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51880" y="223920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51880" y="636840"/>
              <a:ext cx="0" cy="143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147680" y="1480680"/>
              <a:ext cx="142200" cy="1085760"/>
              <a:chOff x="1147680" y="1480680"/>
              <a:chExt cx="142200" cy="10857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1203840" y="2070720"/>
                <a:ext cx="6624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237680" y="2239200"/>
                <a:ext cx="0" cy="32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236240" y="1982160"/>
                <a:ext cx="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189080" y="1843560"/>
                <a:ext cx="100800" cy="100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1147680" y="184104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286" y="290"/>
                    </a:moveTo>
                    <a:arcTo wR="10800" hR="10800" stAng="-4601561" swAng="46015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286" y="290"/>
                    </a:moveTo>
                    <a:arcTo wR="10800" hR="10800" stAng="-4601561" swAng="4601561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1203840" y="1569240"/>
                <a:ext cx="6624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1236240" y="1480680"/>
                <a:ext cx="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236240" y="1746360"/>
                <a:ext cx="0" cy="8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33960" y="1486800"/>
              <a:ext cx="71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3960" y="1377360"/>
              <a:ext cx="71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 rot="16200000">
              <a:off x="813240" y="149616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30960" y="158400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1000" y="1581120"/>
              <a:ext cx="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11000" y="137700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981360" y="1481760"/>
              <a:ext cx="0" cy="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81360" y="127440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948600" y="109908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82800" y="545040"/>
              <a:ext cx="0" cy="55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8512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8512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06000" y="843120"/>
              <a:ext cx="7092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06000" y="843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4164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04164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06000" y="1221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0600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9860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9860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19480" y="843120"/>
              <a:ext cx="7092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19480" y="843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5512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5512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19480" y="1221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1948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40380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0380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24320" y="843120"/>
              <a:ext cx="7128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424320" y="843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5996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5996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24320" y="1221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24320" y="12744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05400" y="99072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605400" y="1052640"/>
              <a:ext cx="11736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626280" y="843120"/>
              <a:ext cx="7128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26280" y="843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6192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6192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26280" y="1221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62628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7368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7368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94560" y="843120"/>
              <a:ext cx="7092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94560" y="843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2984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2984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994560" y="1221120"/>
              <a:ext cx="7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94560" y="12744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75640" y="9907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75640" y="105264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96160" y="843120"/>
              <a:ext cx="71280" cy="70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96160" y="843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31800" y="9144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31800" y="1173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96160" y="12211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96160" y="12744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 rot="16200000">
              <a:off x="5826960" y="8690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43240" y="955440"/>
              <a:ext cx="18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6840" y="955440"/>
              <a:ext cx="19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 rot="10800000">
              <a:off x="5637960" y="11311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672880" y="957960"/>
              <a:ext cx="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 rot="10800000">
              <a:off x="5989680" y="11311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024600" y="957960"/>
              <a:ext cx="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72880" y="1297800"/>
              <a:ext cx="0" cy="11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23160" y="1297800"/>
              <a:ext cx="0" cy="11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613840" y="1424520"/>
              <a:ext cx="11700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613840" y="148680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963760" y="1424520"/>
              <a:ext cx="117360" cy="11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63760" y="14868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58360" y="2150640"/>
              <a:ext cx="121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58360" y="2041560"/>
              <a:ext cx="121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8271720" y="1911600"/>
              <a:ext cx="270000" cy="235800"/>
              <a:chOff x="8271720" y="1911600"/>
              <a:chExt cx="270000" cy="235800"/>
            </a:xfrm>
          </p:grpSpPr>
          <p:sp>
            <p:nvSpPr>
              <p:cNvPr id="608" name=""/>
              <p:cNvSpPr/>
              <p:nvPr/>
            </p:nvSpPr>
            <p:spPr>
              <a:xfrm flipH="1" rot="16200000">
                <a:off x="8372880" y="1860840"/>
                <a:ext cx="66240" cy="16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8272080" y="194076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8491320" y="194364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541720" y="194832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271720" y="1948320"/>
                <a:ext cx="0" cy="9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7829280" y="1938240"/>
              <a:ext cx="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7796520" y="17640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829280" y="636840"/>
              <a:ext cx="0" cy="112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959960" y="204120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27200" y="22791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959960" y="2448720"/>
              <a:ext cx="0" cy="9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8114400" y="204120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81640" y="22791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8114400" y="2448720"/>
              <a:ext cx="0" cy="2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8699040" y="167832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733240" y="184680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31800" y="158976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84280" y="1451160"/>
              <a:ext cx="100800" cy="10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8643240" y="1449000"/>
              <a:ext cx="141480" cy="14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86" y="290"/>
                  </a:moveTo>
                  <a:arcTo wR="10800" hR="10800" stAng="-4601561" swAng="460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86" y="290"/>
                  </a:moveTo>
                  <a:arcTo wR="10800" hR="10800" stAng="-4601561" swAng="460156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8699040" y="11768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8731800" y="108828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731800" y="135396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470440" y="1088280"/>
              <a:ext cx="49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8699040" y="7959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8731800" y="54468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731800" y="97308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73240" y="3115800"/>
              <a:ext cx="99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73240" y="3006720"/>
              <a:ext cx="99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7986600" y="2876760"/>
              <a:ext cx="269640" cy="235800"/>
              <a:chOff x="7986600" y="2876760"/>
              <a:chExt cx="269640" cy="235800"/>
            </a:xfrm>
          </p:grpSpPr>
          <p:sp>
            <p:nvSpPr>
              <p:cNvPr id="637" name=""/>
              <p:cNvSpPr/>
              <p:nvPr/>
            </p:nvSpPr>
            <p:spPr>
              <a:xfrm flipH="1" rot="16200000">
                <a:off x="8087760" y="2826000"/>
                <a:ext cx="66240" cy="16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7986960" y="290592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8205840" y="290880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256240" y="291348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986600" y="2913480"/>
                <a:ext cx="0" cy="9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 flipV="1">
              <a:off x="7773120" y="300168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40360" y="323928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773120" y="3409200"/>
              <a:ext cx="0" cy="11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577280" y="311544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44520" y="323928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577280" y="340956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 rot="16200000">
              <a:off x="8283240" y="34898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99520" y="3576240"/>
              <a:ext cx="18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43120" y="3576240"/>
              <a:ext cx="19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42840" y="3836880"/>
              <a:ext cx="0" cy="26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8110080" y="366660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814284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503200" y="384192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8470440" y="366660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850320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 rot="16200000">
              <a:off x="8924400" y="3489840"/>
              <a:ext cx="66240" cy="1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040680" y="3576240"/>
              <a:ext cx="18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684280" y="3576240"/>
              <a:ext cx="19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784000" y="384192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8751240" y="3666600"/>
              <a:ext cx="6660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878400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144360" y="384192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9111600" y="3666600"/>
              <a:ext cx="66960" cy="1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9144360" y="35758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88120" y="548676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722484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2594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25940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37676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4109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41096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366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5711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57116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76863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77209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72200" y="5486760"/>
              <a:ext cx="66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79459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98084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803880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80730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840528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84394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4394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84967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85312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531280" y="5744880"/>
              <a:ext cx="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826840" y="548676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88632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88981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898120" y="5744880"/>
              <a:ext cx="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90147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90493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04932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91749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92095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20952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932544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935964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9359640" y="5744880"/>
              <a:ext cx="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81880" y="474444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849672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531280" y="511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531280" y="53805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8865360" y="521388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8899560" y="511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899560" y="53805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99520" y="5113440"/>
              <a:ext cx="641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79120" y="287676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28240" y="287676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78400" y="2991960"/>
              <a:ext cx="9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845000" y="2124360"/>
              <a:ext cx="0" cy="86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45000" y="2122560"/>
              <a:ext cx="79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132200" y="2947320"/>
              <a:ext cx="64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74080" y="1911600"/>
              <a:ext cx="0" cy="103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74080" y="1911600"/>
              <a:ext cx="112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60080" y="17697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61920" y="144216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55840" y="1898280"/>
              <a:ext cx="18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52240" y="1442160"/>
              <a:ext cx="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038400" y="1442160"/>
              <a:ext cx="0" cy="25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39840" y="1697400"/>
              <a:ext cx="357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57080" y="144216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456360" y="1837800"/>
              <a:ext cx="286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26760" y="15501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27480" y="144216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32000" y="1768320"/>
              <a:ext cx="288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026960" y="144216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74320" y="1606320"/>
              <a:ext cx="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017040" y="16063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6016680" y="1641600"/>
              <a:ext cx="131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31040" y="164160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331040" y="2549160"/>
              <a:ext cx="633600" cy="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85600" y="2687760"/>
              <a:ext cx="9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1964520"/>
              <a:ext cx="0" cy="72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303552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290196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3552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06828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682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93328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9656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965680" y="574488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6008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31672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320184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0184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3269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3304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04080" y="57448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361152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7760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1152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364392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439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089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5416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416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438720" y="584100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3608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7432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377784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7784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8451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3880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8008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68480" y="584100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4212360" y="5123880"/>
              <a:ext cx="20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407880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21236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24512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24512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101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41428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14288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33692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3444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37868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786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44463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44809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480920" y="574488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4781880" y="5123880"/>
              <a:ext cx="20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64868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78224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481500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1500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800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47127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07160" y="548676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914000" y="522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4948560" y="512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4856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501624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50508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05080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478120" y="54867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97280" y="522576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5629680" y="481500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29680" y="539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0224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553500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788800" y="5474880"/>
              <a:ext cx="54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582588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5860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595332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59875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98752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6077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1120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1208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20352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623844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238440" y="5744880"/>
              <a:ext cx="0" cy="61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6196680" y="5115240"/>
              <a:ext cx="66600" cy="361080"/>
              <a:chOff x="6196680" y="5115240"/>
              <a:chExt cx="66600" cy="361080"/>
            </a:xfrm>
          </p:grpSpPr>
          <p:sp>
            <p:nvSpPr>
              <p:cNvPr id="817" name=""/>
              <p:cNvSpPr/>
              <p:nvPr/>
            </p:nvSpPr>
            <p:spPr>
              <a:xfrm flipH="1" flipV="1">
                <a:off x="6196320" y="5211360"/>
                <a:ext cx="6660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230880" y="538056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6230880" y="511524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6476040" y="5474880"/>
              <a:ext cx="54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651240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65469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546960" y="5744880"/>
              <a:ext cx="0" cy="5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664056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667476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674760" y="574488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6764760" y="557820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79932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99320" y="5744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6891480" y="557820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6925680" y="547920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92568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6517440" y="5115240"/>
              <a:ext cx="66960" cy="361080"/>
              <a:chOff x="6517440" y="5115240"/>
              <a:chExt cx="66960" cy="361080"/>
            </a:xfrm>
          </p:grpSpPr>
          <p:sp>
            <p:nvSpPr>
              <p:cNvPr id="834" name=""/>
              <p:cNvSpPr/>
              <p:nvPr/>
            </p:nvSpPr>
            <p:spPr>
              <a:xfrm flipH="1" flipV="1">
                <a:off x="6517440" y="5211360"/>
                <a:ext cx="6696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551280" y="538056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6551280" y="5115240"/>
                <a:ext cx="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6119640" y="5116680"/>
              <a:ext cx="54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987480" y="540720"/>
              <a:ext cx="774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52600" y="636840"/>
              <a:ext cx="63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346360" y="1970640"/>
              <a:ext cx="18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9209160" y="5877720"/>
              <a:ext cx="3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9539280" y="4178160"/>
              <a:ext cx="0" cy="16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8782200" y="4178160"/>
              <a:ext cx="75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569360" y="5947200"/>
              <a:ext cx="147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613360" y="60195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8684280" y="6112440"/>
              <a:ext cx="6696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8718480" y="601344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718480" y="627912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8719920" y="637380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249400" y="6019560"/>
              <a:ext cx="213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8319960" y="61124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8354880" y="601344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354880" y="627912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8354520" y="6373800"/>
              <a:ext cx="1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06832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884000" y="5874840"/>
              <a:ext cx="1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887240" y="4178160"/>
              <a:ext cx="0" cy="169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887240" y="4176720"/>
              <a:ext cx="61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976520" y="5744880"/>
              <a:ext cx="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718400" y="5744880"/>
              <a:ext cx="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7727040" y="5806800"/>
              <a:ext cx="24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713840" y="5879160"/>
              <a:ext cx="11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71276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5684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242320" y="574488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5052600" y="5950080"/>
              <a:ext cx="186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31760" y="574488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6110280" y="587772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45920" y="4107240"/>
              <a:ext cx="0" cy="177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7051320" y="4102560"/>
              <a:ext cx="108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1524240" y="5947200"/>
              <a:ext cx="75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2290320" y="584244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2462760" y="584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460960" y="59428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2637720" y="5842080"/>
              <a:ext cx="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2779920" y="5842080"/>
              <a:ext cx="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595080" y="6019560"/>
              <a:ext cx="204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2779560" y="601956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946800" y="6089040"/>
              <a:ext cx="252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3474720" y="584244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3612600" y="58424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612240" y="594864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1880640" y="61596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3804120" y="5842080"/>
              <a:ext cx="0" cy="3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3947040" y="5842080"/>
              <a:ext cx="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948120" y="6018120"/>
              <a:ext cx="52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7" name=""/>
            <p:cNvGraphicFramePr/>
            <p:nvPr/>
          </p:nvGraphicFramePr>
          <p:xfrm>
            <a:off x="5643360" y="4354920"/>
            <a:ext cx="82800" cy="14184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8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43360" y="4354920"/>
                      <a:ext cx="82800" cy="14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9" name=""/>
            <p:cNvGraphicFramePr/>
            <p:nvPr/>
          </p:nvGraphicFramePr>
          <p:xfrm>
            <a:off x="6288840" y="4350600"/>
            <a:ext cx="82800" cy="14148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89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88840" y="4350600"/>
                      <a:ext cx="82800" cy="14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1" name=""/>
            <p:cNvSpPr/>
            <p:nvPr/>
          </p:nvSpPr>
          <p:spPr>
            <a:xfrm flipH="1">
              <a:off x="1734120" y="6231960"/>
              <a:ext cx="40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63600" y="4815360"/>
              <a:ext cx="0" cy="14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763600" y="4816800"/>
              <a:ext cx="85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1203480" y="6363360"/>
              <a:ext cx="503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2027520" y="6298560"/>
              <a:ext cx="452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13680" y="37886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4623480" y="3791160"/>
              <a:ext cx="0" cy="81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23480" y="4602960"/>
              <a:ext cx="314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711280" y="4673880"/>
              <a:ext cx="0" cy="44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904840" y="4673880"/>
              <a:ext cx="580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646720" y="4744440"/>
              <a:ext cx="48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671880" y="6010560"/>
              <a:ext cx="44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17200" y="4249080"/>
              <a:ext cx="0" cy="176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7119360" y="4245840"/>
              <a:ext cx="20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532680" y="4815360"/>
              <a:ext cx="208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376800" y="4886280"/>
              <a:ext cx="19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82320" y="4956840"/>
              <a:ext cx="89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881960" y="49568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36320" y="4602960"/>
              <a:ext cx="0" cy="52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36320" y="4602960"/>
              <a:ext cx="123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311720" y="502776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316400" y="5027760"/>
              <a:ext cx="15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701880" y="4532040"/>
              <a:ext cx="282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701880" y="4532040"/>
              <a:ext cx="0" cy="59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49600" y="431964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78480" y="4319640"/>
              <a:ext cx="0" cy="63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391080" y="4956840"/>
              <a:ext cx="0" cy="1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478480" y="4956840"/>
              <a:ext cx="91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903360" y="229824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 rot="16200000">
              <a:off x="68320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64840" y="264060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648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 rot="16200000">
              <a:off x="6974280" y="256860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007040" y="264060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007040" y="25315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864840" y="25225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 rot="16200000">
              <a:off x="6900480" y="217584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36120" y="2466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936120" y="22478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936120" y="1769760"/>
              <a:ext cx="0" cy="40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5400000">
              <a:off x="68320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6864840" y="311544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8648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5400000">
              <a:off x="697428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007040" y="2902680"/>
              <a:ext cx="0" cy="26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7007040" y="32407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64840" y="328392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6900480" y="334152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7597800" y="2902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62680" y="119916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77040" y="119916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upare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7080" y="126972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0440" y="137592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98160" y="248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98160" y="2367360"/>
              <a:ext cx="235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53880" y="227916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88280" y="255348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upare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29800" y="3407760"/>
              <a:ext cx="872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 kV Cazanest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20480" y="33368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24800" y="3227760"/>
              <a:ext cx="237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29800" y="4120560"/>
              <a:ext cx="872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 Cazanest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221840" y="4505760"/>
              <a:ext cx="525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Uz. Me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622520" y="4917240"/>
              <a:ext cx="525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A-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9880" y="4917240"/>
              <a:ext cx="525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A-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985680" y="4695840"/>
              <a:ext cx="872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-400MV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91760" y="53114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84840" y="532908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4840" y="5041440"/>
              <a:ext cx="249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16480" y="53114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92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232280" y="5311440"/>
              <a:ext cx="283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386720" y="531144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5868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7470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916280" y="53114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212840" y="5474880"/>
              <a:ext cx="356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 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212840" y="5576760"/>
              <a:ext cx="356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-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22804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8408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837880" y="5027760"/>
              <a:ext cx="283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18528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7440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1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7112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1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77560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2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16296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2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41244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7508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51600" y="5311440"/>
              <a:ext cx="381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3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73752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3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0464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3430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94236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4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2972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4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579200" y="50277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9172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52556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B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908600" y="531144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B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140080" y="5027760"/>
              <a:ext cx="2862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0240" y="502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224680" y="5470560"/>
              <a:ext cx="381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B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96120" y="5470560"/>
              <a:ext cx="3826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B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36320" y="5099040"/>
              <a:ext cx="425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G 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534000" y="50990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836320" y="5240520"/>
              <a:ext cx="425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1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524640" y="524052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1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117200" y="531144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468920" y="5306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811640" y="494820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G 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811640" y="506628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B2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933320" y="4319640"/>
              <a:ext cx="5695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ILMA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826840" y="4956840"/>
              <a:ext cx="428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898120" y="528912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B2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755560" y="59619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448120" y="59666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7B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043120" y="59666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7B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933320" y="3407760"/>
              <a:ext cx="425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G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328240" y="340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043120" y="3292560"/>
              <a:ext cx="5698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oncasar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582040" y="340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969400" y="34077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759880" y="3292560"/>
              <a:ext cx="423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Benz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782200" y="359388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328240" y="296496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5 kV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55840" y="1911600"/>
              <a:ext cx="344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39840" y="272196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539840" y="278388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7597800" y="1911240"/>
              <a:ext cx="0" cy="80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900560" y="1700640"/>
              <a:ext cx="9259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 kV Riuren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043120" y="919800"/>
              <a:ext cx="9259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 kV Riuren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615440" y="192492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615440" y="205308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05800" y="779760"/>
              <a:ext cx="7837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RA 3-AMIN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911400" y="66312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El. I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267440" y="8492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RD 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710520" y="849240"/>
              <a:ext cx="427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RD 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17640" y="849240"/>
              <a:ext cx="429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RD 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78720" y="8492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278880" y="8492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483720" y="849240"/>
              <a:ext cx="213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85120" y="636840"/>
              <a:ext cx="7124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Electroliza II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552560" y="2265840"/>
              <a:ext cx="4982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atia 110 k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45520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45520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00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000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5400000">
              <a:off x="3198600" y="3165480"/>
              <a:ext cx="70920" cy="71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848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848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2992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2992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5550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5550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95136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95136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26744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485600" y="274824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61200" y="25401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734720" y="25401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66040" y="2761560"/>
              <a:ext cx="356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9086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9086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135760" y="293256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135760" y="2673000"/>
              <a:ext cx="2844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47848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47848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8556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78556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19640" y="2932560"/>
              <a:ext cx="2862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119640" y="2673000"/>
              <a:ext cx="2862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4404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404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760800" y="293256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760800" y="2673000"/>
              <a:ext cx="284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6930000" y="328932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16200000">
              <a:off x="2267640" y="3714840"/>
              <a:ext cx="424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6200000">
              <a:off x="2546640" y="3713400"/>
              <a:ext cx="424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16200000">
              <a:off x="285300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16200000">
              <a:off x="2853000" y="43531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16200000">
              <a:off x="3466440" y="4192920"/>
              <a:ext cx="3124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16200000">
              <a:off x="346608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243240" y="3553920"/>
              <a:ext cx="405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6200000">
              <a:off x="3052800" y="4170960"/>
              <a:ext cx="4543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6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6200000">
              <a:off x="3227040" y="4165560"/>
              <a:ext cx="450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6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6200000">
              <a:off x="3772440" y="4276440"/>
              <a:ext cx="480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5G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16200000">
              <a:off x="385632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16200000">
              <a:off x="4991040" y="3713400"/>
              <a:ext cx="4248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6200000">
              <a:off x="536580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16200000">
              <a:off x="4073760" y="3995280"/>
              <a:ext cx="339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28160" y="3407760"/>
              <a:ext cx="3513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63600" y="3553920"/>
              <a:ext cx="4986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Tv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6200000">
              <a:off x="6011280" y="369792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16200000">
              <a:off x="6210000" y="3637800"/>
              <a:ext cx="52200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BT”0”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6200000">
              <a:off x="5371560" y="433260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6200000">
              <a:off x="6011280" y="4326840"/>
              <a:ext cx="312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6200000">
              <a:off x="5565240" y="3961080"/>
              <a:ext cx="383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16200000">
              <a:off x="6210720" y="3961080"/>
              <a:ext cx="3837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T1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6932880" y="351648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876360" y="357624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876360" y="3637800"/>
              <a:ext cx="11736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930000" y="3611520"/>
              <a:ext cx="117000" cy="11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048800" y="367344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150040" y="4459680"/>
              <a:ext cx="4629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USG 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1960" y="6147720"/>
              <a:ext cx="6411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Priza Ol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2343960" y="2062080"/>
              <a:ext cx="117000" cy="116640"/>
              <a:chOff x="2343960" y="2062080"/>
              <a:chExt cx="117000" cy="116640"/>
            </a:xfrm>
          </p:grpSpPr>
          <p:sp>
            <p:nvSpPr>
              <p:cNvPr id="1095" name=""/>
              <p:cNvSpPr/>
              <p:nvPr/>
            </p:nvSpPr>
            <p:spPr>
              <a:xfrm>
                <a:off x="2343960" y="206208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 flipV="1">
                <a:off x="2373480" y="209088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3100680" y="3996720"/>
              <a:ext cx="117000" cy="116280"/>
              <a:chOff x="3100680" y="3996720"/>
              <a:chExt cx="117000" cy="116280"/>
            </a:xfrm>
          </p:grpSpPr>
          <p:sp>
            <p:nvSpPr>
              <p:cNvPr id="1098" name=""/>
              <p:cNvSpPr/>
              <p:nvPr/>
            </p:nvSpPr>
            <p:spPr>
              <a:xfrm>
                <a:off x="3100680" y="39967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 flipV="1">
                <a:off x="3130200" y="40255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3706200" y="3996720"/>
              <a:ext cx="117000" cy="116280"/>
              <a:chOff x="3706200" y="3996720"/>
              <a:chExt cx="117000" cy="116280"/>
            </a:xfrm>
          </p:grpSpPr>
          <p:sp>
            <p:nvSpPr>
              <p:cNvPr id="1101" name=""/>
              <p:cNvSpPr/>
              <p:nvPr/>
            </p:nvSpPr>
            <p:spPr>
              <a:xfrm>
                <a:off x="3706200" y="39967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 flipV="1">
                <a:off x="3735720" y="40255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4565520" y="3996720"/>
              <a:ext cx="117360" cy="116280"/>
              <a:chOff x="4565520" y="3996720"/>
              <a:chExt cx="117360" cy="116280"/>
            </a:xfrm>
          </p:grpSpPr>
          <p:sp>
            <p:nvSpPr>
              <p:cNvPr id="1104" name=""/>
              <p:cNvSpPr/>
              <p:nvPr/>
            </p:nvSpPr>
            <p:spPr>
              <a:xfrm>
                <a:off x="4565520" y="399672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 flipV="1">
                <a:off x="4595040" y="402552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5612040" y="3979080"/>
              <a:ext cx="117360" cy="116280"/>
              <a:chOff x="5612040" y="3979080"/>
              <a:chExt cx="117360" cy="116280"/>
            </a:xfrm>
          </p:grpSpPr>
          <p:sp>
            <p:nvSpPr>
              <p:cNvPr id="1107" name=""/>
              <p:cNvSpPr/>
              <p:nvPr/>
            </p:nvSpPr>
            <p:spPr>
              <a:xfrm>
                <a:off x="5612040" y="397908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 flipV="1">
                <a:off x="5641560" y="40078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6253200" y="3979080"/>
              <a:ext cx="117360" cy="116280"/>
              <a:chOff x="6253200" y="3979080"/>
              <a:chExt cx="117360" cy="116280"/>
            </a:xfrm>
          </p:grpSpPr>
          <p:sp>
            <p:nvSpPr>
              <p:cNvPr id="1110" name=""/>
              <p:cNvSpPr/>
              <p:nvPr/>
            </p:nvSpPr>
            <p:spPr>
              <a:xfrm>
                <a:off x="6253200" y="397908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 flipV="1">
                <a:off x="6282720" y="40078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2842560" y="1973520"/>
              <a:ext cx="117000" cy="116280"/>
              <a:chOff x="2842560" y="1973520"/>
              <a:chExt cx="117000" cy="116280"/>
            </a:xfrm>
          </p:grpSpPr>
          <p:sp>
            <p:nvSpPr>
              <p:cNvPr id="1113" name=""/>
              <p:cNvSpPr/>
              <p:nvPr/>
            </p:nvSpPr>
            <p:spPr>
              <a:xfrm>
                <a:off x="284256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 flipV="1">
                <a:off x="287208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3100680" y="1973520"/>
              <a:ext cx="117000" cy="116280"/>
              <a:chOff x="3100680" y="1973520"/>
              <a:chExt cx="117000" cy="116280"/>
            </a:xfrm>
          </p:grpSpPr>
          <p:sp>
            <p:nvSpPr>
              <p:cNvPr id="1116" name=""/>
              <p:cNvSpPr/>
              <p:nvPr/>
            </p:nvSpPr>
            <p:spPr>
              <a:xfrm>
                <a:off x="310068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 flipV="1">
                <a:off x="313020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3385800" y="1973520"/>
              <a:ext cx="117000" cy="116280"/>
              <a:chOff x="3385800" y="1973520"/>
              <a:chExt cx="117000" cy="116280"/>
            </a:xfrm>
          </p:grpSpPr>
          <p:sp>
            <p:nvSpPr>
              <p:cNvPr id="1119" name=""/>
              <p:cNvSpPr/>
              <p:nvPr/>
            </p:nvSpPr>
            <p:spPr>
              <a:xfrm>
                <a:off x="338580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 flipV="1">
                <a:off x="341532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4098240" y="1973520"/>
              <a:ext cx="117360" cy="116280"/>
              <a:chOff x="4098240" y="1973520"/>
              <a:chExt cx="117360" cy="116280"/>
            </a:xfrm>
          </p:grpSpPr>
          <p:sp>
            <p:nvSpPr>
              <p:cNvPr id="1122" name=""/>
              <p:cNvSpPr/>
              <p:nvPr/>
            </p:nvSpPr>
            <p:spPr>
              <a:xfrm>
                <a:off x="4098240" y="1973520"/>
                <a:ext cx="11736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 flipV="1">
                <a:off x="4127760" y="200232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4423320" y="1973520"/>
              <a:ext cx="117000" cy="116280"/>
              <a:chOff x="4423320" y="1973520"/>
              <a:chExt cx="117000" cy="116280"/>
            </a:xfrm>
          </p:grpSpPr>
          <p:sp>
            <p:nvSpPr>
              <p:cNvPr id="1125" name=""/>
              <p:cNvSpPr/>
              <p:nvPr/>
            </p:nvSpPr>
            <p:spPr>
              <a:xfrm>
                <a:off x="4423320" y="19735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 flipV="1">
                <a:off x="4452840" y="20023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5291640" y="2004480"/>
              <a:ext cx="117000" cy="116640"/>
              <a:chOff x="5291640" y="2004480"/>
              <a:chExt cx="117000" cy="116640"/>
            </a:xfrm>
          </p:grpSpPr>
          <p:sp>
            <p:nvSpPr>
              <p:cNvPr id="1128" name=""/>
              <p:cNvSpPr/>
              <p:nvPr/>
            </p:nvSpPr>
            <p:spPr>
              <a:xfrm>
                <a:off x="5291640" y="200448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 flipV="1">
                <a:off x="5321160" y="203328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0" name=""/>
            <p:cNvSpPr/>
            <p:nvPr/>
          </p:nvSpPr>
          <p:spPr>
            <a:xfrm>
              <a:off x="5986080" y="2124360"/>
              <a:ext cx="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5616360" y="2004480"/>
              <a:ext cx="117360" cy="116640"/>
              <a:chOff x="5616360" y="2004480"/>
              <a:chExt cx="117360" cy="116640"/>
            </a:xfrm>
          </p:grpSpPr>
          <p:sp>
            <p:nvSpPr>
              <p:cNvPr id="1132" name=""/>
              <p:cNvSpPr/>
              <p:nvPr/>
            </p:nvSpPr>
            <p:spPr>
              <a:xfrm>
                <a:off x="5616360" y="2004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 flipV="1">
                <a:off x="5645880" y="2033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6253200" y="2004480"/>
              <a:ext cx="117360" cy="116640"/>
              <a:chOff x="6253200" y="2004480"/>
              <a:chExt cx="117360" cy="116640"/>
            </a:xfrm>
          </p:grpSpPr>
          <p:sp>
            <p:nvSpPr>
              <p:cNvPr id="1135" name=""/>
              <p:cNvSpPr/>
              <p:nvPr/>
            </p:nvSpPr>
            <p:spPr>
              <a:xfrm>
                <a:off x="6253200" y="2004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 flipV="1">
                <a:off x="6282720" y="2033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6560280" y="2004480"/>
              <a:ext cx="117000" cy="116640"/>
              <a:chOff x="6560280" y="2004480"/>
              <a:chExt cx="117000" cy="116640"/>
            </a:xfrm>
          </p:grpSpPr>
          <p:sp>
            <p:nvSpPr>
              <p:cNvPr id="1138" name=""/>
              <p:cNvSpPr/>
              <p:nvPr/>
            </p:nvSpPr>
            <p:spPr>
              <a:xfrm>
                <a:off x="6560280" y="200448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 flipV="1">
                <a:off x="6589800" y="203328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6876360" y="2004480"/>
              <a:ext cx="117360" cy="116640"/>
              <a:chOff x="6876360" y="2004480"/>
              <a:chExt cx="117360" cy="116640"/>
            </a:xfrm>
          </p:grpSpPr>
          <p:sp>
            <p:nvSpPr>
              <p:cNvPr id="1141" name=""/>
              <p:cNvSpPr/>
              <p:nvPr/>
            </p:nvSpPr>
            <p:spPr>
              <a:xfrm>
                <a:off x="6876360" y="2004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 flipV="1">
                <a:off x="6905880" y="2033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3" name=""/>
            <p:cNvSpPr/>
            <p:nvPr/>
          </p:nvSpPr>
          <p:spPr>
            <a:xfrm>
              <a:off x="3127320" y="141120"/>
              <a:ext cx="270864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chema electrica monofila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028880" y="558576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1061640" y="575352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1061640" y="548676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7" name=""/>
            <p:cNvGrpSpPr/>
            <p:nvPr/>
          </p:nvGrpSpPr>
          <p:grpSpPr>
            <a:xfrm>
              <a:off x="1003680" y="5820120"/>
              <a:ext cx="117000" cy="116280"/>
              <a:chOff x="1003680" y="5820120"/>
              <a:chExt cx="117000" cy="116280"/>
            </a:xfrm>
          </p:grpSpPr>
          <p:sp>
            <p:nvSpPr>
              <p:cNvPr id="1148" name=""/>
              <p:cNvSpPr/>
              <p:nvPr/>
            </p:nvSpPr>
            <p:spPr>
              <a:xfrm>
                <a:off x="1003680" y="5820120"/>
                <a:ext cx="117000" cy="116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 flipV="1">
                <a:off x="1033200" y="584892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 flipH="1">
              <a:off x="758520" y="4673880"/>
              <a:ext cx="65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695160" y="4744440"/>
              <a:ext cx="117000" cy="116640"/>
              <a:chOff x="695160" y="4744440"/>
              <a:chExt cx="117000" cy="116640"/>
            </a:xfrm>
          </p:grpSpPr>
          <p:sp>
            <p:nvSpPr>
              <p:cNvPr id="1152" name=""/>
              <p:cNvSpPr/>
              <p:nvPr/>
            </p:nvSpPr>
            <p:spPr>
              <a:xfrm>
                <a:off x="695160" y="4744440"/>
                <a:ext cx="11700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 flipV="1">
                <a:off x="724680" y="4773240"/>
                <a:ext cx="4968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 flipV="1">
              <a:off x="8332560" y="5381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830088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8176680" y="5381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814500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176680" y="4461480"/>
              <a:ext cx="0" cy="74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9" name=""/>
            <p:cNvGrpSpPr/>
            <p:nvPr/>
          </p:nvGrpSpPr>
          <p:grpSpPr>
            <a:xfrm>
              <a:off x="8118720" y="4722480"/>
              <a:ext cx="117360" cy="116640"/>
              <a:chOff x="8118720" y="4722480"/>
              <a:chExt cx="117360" cy="116640"/>
            </a:xfrm>
          </p:grpSpPr>
          <p:sp>
            <p:nvSpPr>
              <p:cNvPr id="1160" name=""/>
              <p:cNvSpPr/>
              <p:nvPr/>
            </p:nvSpPr>
            <p:spPr>
              <a:xfrm>
                <a:off x="8118720" y="472248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 flipV="1">
                <a:off x="8148240" y="475128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8332560" y="4602960"/>
              <a:ext cx="0" cy="60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8274600" y="4939200"/>
              <a:ext cx="117360" cy="116640"/>
              <a:chOff x="8274600" y="4939200"/>
              <a:chExt cx="117360" cy="116640"/>
            </a:xfrm>
          </p:grpSpPr>
          <p:sp>
            <p:nvSpPr>
              <p:cNvPr id="1164" name=""/>
              <p:cNvSpPr/>
              <p:nvPr/>
            </p:nvSpPr>
            <p:spPr>
              <a:xfrm>
                <a:off x="8274600" y="493920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 flipV="1">
                <a:off x="8304120" y="496800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 flipV="1">
              <a:off x="9285480" y="538164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9253800" y="5213880"/>
              <a:ext cx="66600" cy="16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9285480" y="4602960"/>
              <a:ext cx="0" cy="60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9227520" y="4939200"/>
              <a:ext cx="117360" cy="116640"/>
              <a:chOff x="9227520" y="4939200"/>
              <a:chExt cx="117360" cy="116640"/>
            </a:xfrm>
          </p:grpSpPr>
          <p:sp>
            <p:nvSpPr>
              <p:cNvPr id="1170" name=""/>
              <p:cNvSpPr/>
              <p:nvPr/>
            </p:nvSpPr>
            <p:spPr>
              <a:xfrm>
                <a:off x="9227520" y="4939200"/>
                <a:ext cx="117360" cy="1166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 flipV="1">
                <a:off x="9257040" y="4968000"/>
                <a:ext cx="5004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2" name=""/>
            <p:cNvSpPr/>
            <p:nvPr/>
          </p:nvSpPr>
          <p:spPr>
            <a:xfrm>
              <a:off x="9040680" y="4459680"/>
              <a:ext cx="4629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29520" bIns="2952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588960"/>
                  <a:tab algn="l" pos="1177920"/>
                  <a:tab algn="l" pos="1766880"/>
                  <a:tab algn="l" pos="2355840"/>
                  <a:tab algn="l" pos="2944800"/>
                  <a:tab algn="l" pos="3533760"/>
                  <a:tab algn="l" pos="4122720"/>
                  <a:tab algn="l" pos="4711680"/>
                  <a:tab algn="l" pos="5300640"/>
                  <a:tab algn="l" pos="5889600"/>
                  <a:tab algn="l" pos="6478560"/>
                  <a:tab algn="l" pos="7067520"/>
                  <a:tab algn="l" pos="7656480"/>
                  <a:tab algn="l" pos="8245440"/>
                  <a:tab algn="l" pos="8834400"/>
                  <a:tab algn="l" pos="9423360"/>
                  <a:tab algn="l" pos="10012320"/>
                  <a:tab algn="l" pos="106012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USG 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2363400" y="6448320"/>
            <a:ext cx="291528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9520" bIns="29520" anchor="t">
            <a:spAutoFit/>
          </a:bodyPr>
          <a:p>
            <a:pPr>
              <a:tabLst>
                <a:tab algn="l" pos="0"/>
                <a:tab algn="l" pos="588960"/>
                <a:tab algn="l" pos="1177920"/>
                <a:tab algn="l" pos="1766880"/>
                <a:tab algn="l" pos="2355840"/>
                <a:tab algn="l" pos="2944800"/>
                <a:tab algn="l" pos="3533760"/>
                <a:tab algn="l" pos="4122720"/>
                <a:tab algn="l" pos="4711680"/>
                <a:tab algn="l" pos="5300640"/>
                <a:tab algn="l" pos="5889600"/>
                <a:tab algn="l" pos="6478560"/>
                <a:tab algn="l" pos="7067520"/>
                <a:tab algn="l" pos="7656480"/>
                <a:tab algn="l" pos="8245440"/>
                <a:tab algn="l" pos="8834400"/>
                <a:tab algn="l" pos="9423360"/>
                <a:tab algn="l" pos="10012320"/>
                <a:tab algn="l" pos="10601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g. nr. 2.4 Schema electric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ă monifilară a CET Govo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1T05:05:17Z</dcterms:created>
  <dc:creator>CET</dc:creator>
  <dc:description/>
  <dc:language>en-US</dc:language>
  <cp:lastModifiedBy>Carmen</cp:lastModifiedBy>
  <cp:lastPrinted>2000-08-11T05:07:41Z</cp:lastPrinted>
  <dcterms:modified xsi:type="dcterms:W3CDTF">2007-08-15T15:22:00Z</dcterms:modified>
  <cp:revision>4</cp:revision>
  <dc:subject/>
  <dc:title>No Slide Title</dc:title>
</cp:coreProperties>
</file>